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7E4D9-F410-4669-9FF2-2664AD2AA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D4D3-6587-4D0E-9006-7B8657DA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7A73-703D-466E-905B-13505BFB4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4D0E2-0A63-493A-95FC-5A04C9C28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48B20-59FE-4C1E-AC65-988A162B3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1B04-F36B-4A26-87A1-76B949D81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C6FF3-7C77-42B1-904E-9C1AF738F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3DB2D-0EF6-4F4D-8D56-3BDA4D974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971B3-25C3-4D5C-B3F5-B7665498E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62360-E824-43FE-8351-10D5F9F10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B57C9-ED90-42BA-8F9A-8CC27F6D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E3AB-C83C-426B-91F6-3463D12E6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7386-ADB2-48CD-8066-2CD2A17F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DD6E-1AAC-4FC8-973F-B9FA77C9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DC75E-F92E-4A8D-B512-16BC68081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06D75-ACE6-4C31-B803-F8AC5A53C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16900-0538-4FC6-9781-8F87EAC2A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3BA8-42EB-451E-A66B-B6C90D913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42E4-0A94-4DA2-8B38-45E7C922F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43C2-398F-4151-844D-D046BB066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E6C3F-8E94-4CE8-81EF-04F47B91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363E-A708-43F9-A513-926EFFCA6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A712-CBFD-4E4A-99A4-84AB7596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6778-095E-4412-BF87-15DAD0BC2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8057-E716-4E87-A0D4-B98BA78DF86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0F73-1A9C-4FE3-A3CF-40B69FDEC60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eremonia ceaiului la japonezi</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62120" y="609480"/>
            <a:ext cx="4952880" cy="5943600"/>
          </a:xfrm>
          <a:prstGeom prst="rect">
            <a:avLst/>
          </a:prstGeom>
          <a:ln w="0">
            <a:noFill/>
          </a:ln>
        </p:spPr>
      </p:pic>
      <p:sp>
        <p:nvSpPr>
          <p:cNvPr id="113" name=""/>
          <p:cNvSpPr/>
          <p:nvPr/>
        </p:nvSpPr>
        <p:spPr>
          <a:xfrm>
            <a:off x="6095880" y="1219320"/>
            <a:ext cx="26672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v:Girboveanu ALina Andreea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a XI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In Japonia, ceremonia ceaiului este numita sado sau chado si este puternic influentata de budismul zen. Alaturi de poezie, caligrafie, arte martiale si ikebana, ceremonia ceaiului este considerata o arta. Arta ceaiului mai este numita chanoyu, care se traduce prin “calea ceaiului”, prin care se incearca disciplinarea mintii si purificarea sufletulu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0" y="609480"/>
            <a:ext cx="4133880" cy="5105520"/>
          </a:xfrm>
          <a:prstGeom prst="rect">
            <a:avLst/>
          </a:prstGeom>
          <a:ln w="0">
            <a:noFill/>
          </a:ln>
        </p:spPr>
      </p:pic>
      <p:sp>
        <p:nvSpPr>
          <p:cNvPr id="103" name=""/>
          <p:cNvSpPr/>
          <p:nvPr/>
        </p:nvSpPr>
        <p:spPr>
          <a:xfrm>
            <a:off x="152280" y="685800"/>
            <a:ext cx="426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609480" y="609480"/>
            <a:ext cx="3505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In traditia japoneza, ceaiul este preparat de o persoana initiata</a:t>
            </a:r>
            <a:r>
              <a:rPr b="0" lang="ro-RO" sz="3200" spc="-1" strike="noStrike">
                <a:solidFill>
                  <a:srgbClr val="ffffff"/>
                </a:solidFill>
                <a:latin typeface="Arial"/>
              </a:rPr>
              <a:t> si se bea numai intr-o camera speciala pentru ritualul ceaiului, numita chashits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533520"/>
            <a:ext cx="8229600" cy="5867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entru ceremonie sunt necesare foarte multe obiecte si ustensile, dintre care o mare parte nu se folosesc, rolul lor este pur estetic. Cele mai importante obiecte sunt: recipientul pentru ceai, telul de bambus cu care se amesteca ceaiul, lingurita de bambus, ceasca, servetelul pentru curatat ceasca, polonicul de bambus, batiste din hartie de orez, vas pentru pulberea de ceai, evanta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72200" y="838080"/>
            <a:ext cx="2590920" cy="5486400"/>
          </a:xfrm>
          <a:prstGeom prst="rect">
            <a:avLst/>
          </a:prstGeom>
          <a:ln w="0">
            <a:noFill/>
          </a:ln>
        </p:spPr>
      </p:pic>
      <p:sp>
        <p:nvSpPr>
          <p:cNvPr id="108" name=""/>
          <p:cNvSpPr/>
          <p:nvPr/>
        </p:nvSpPr>
        <p:spPr>
          <a:xfrm>
            <a:off x="228600" y="228600"/>
            <a:ext cx="586728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eremonia ceaiului dureaza intre 2 ore si 5 ore</a:t>
            </a:r>
            <a:r>
              <a:rPr b="0" lang="ro-RO" sz="3200" spc="-1" strike="noStrike">
                <a:solidFill>
                  <a:srgbClr val="ffffff"/>
                </a:solidFill>
                <a:latin typeface="Arial"/>
              </a:rPr>
              <a:t>, in functie de tipul de mancare servit si de felul in care a ales gazda sa pregateasca ceremonia. Pentru a realiza o ceremonie a ceaiului desavarsita este nevoie de ani buni de pregatire, in care se invata ritmul miscarilor pentru asezarea ustensilelor, felul in care se aseaza ustensilele, tehnicile de conversati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8240" y="380880"/>
            <a:ext cx="7537680" cy="604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In Japonia, bazele ceremoniei ceaiului au fost puse de preotul budist Eisai (1141-1215), care a introdus tot felul de reguli si tehnici in acest obicei. Acestea au fost perfectionate de-a lungul timpului si au fost practicate doar de calugari budisti, samurai si nobili. Scolile in care se invata ceremonia ceaiului s-au mentinut pana in zilele noastre in Japonia, insa acum aceasta ceremonie se practica destul de putin si in special pentru turis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1-05-20T12:32:1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